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DB8-D235-4796-A28D-F82AE3EB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EAB-853B-4518-9361-AFC01583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DA9-611D-4662-8DF8-36719AB3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FAF-9E2A-471B-AE2C-993958AE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3B9-70CD-44DB-ACE6-B1024CD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4E7-C389-4C3E-A988-ADD5DED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D6C-0B9B-4121-8F0C-278E4CBA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9CC-D0A3-4191-AA4D-5DC69557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877-2115-45FB-A4EA-6A6BFED9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071-53D0-4473-A6C6-DE35FA8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2DD-EEE0-400C-BF41-E6BAB8E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23C-5A21-4B60-A7D0-E73FB51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61C-422F-45FC-8368-D074CC1A95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896760"/>
            <a:ext cx="853416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The Properties of Waves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perposi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ffrac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685800" y="67644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Comic Sans MS"/>
              </a:rPr>
              <a:t>Can you still hear me?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133720" y="4132440"/>
            <a:ext cx="4343400" cy="2649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752480" y="1889280"/>
            <a:ext cx="5562720" cy="2606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rrier – the longer the wavelength, the more the diffra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14400" y="477720"/>
            <a:ext cx="716292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438280" y="3666960"/>
            <a:ext cx="4191120" cy="319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33720" y="0"/>
            <a:ext cx="46479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362320" y="4343400"/>
            <a:ext cx="380196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505320" cy="275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838080" y="2054160"/>
            <a:ext cx="3200400" cy="2289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293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p – maximum diffraction occurs when the wavelength is equal to the size of the ga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220px-Wavelength=slitwidthspectrum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04920" y="228600"/>
            <a:ext cx="85341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Diffra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waves pass around a barrier or through a gap, they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end behi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barrier/gap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rrie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– the longer the wavelength, the more the diffra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ap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– maximum diffraction occurs when the wavelength is equal to the size of the ga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12-03-29T20:17:5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